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2770-0207-43A0-94D2-D90F65762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C931-5909-46E2-A7E8-5E9ADFCF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719F-12E2-4C11-B011-E4CAF7A7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1DFD-D29C-4456-B1DD-F16B67D4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2DC7-E862-43E8-B371-22267F05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E0DC-67CC-47F3-943C-32C2EA29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6D2C-7715-4704-96E6-D9330F8C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008F-91AC-4132-A71B-616E626A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3D8-2F16-4FCC-9CED-4BEB2C00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8241-3C4B-4C8D-9E20-3DE83E80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655E-B8B0-49E7-AA82-EFB4C5D3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8748-8AD7-439F-9806-0D51D842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357E-691A-41F2-9225-5F689B7E1C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228240"/>
            <a:ext cx="89917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пределить число протонов, электронов и нейтронов в атоме аз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Что называют электрическим то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Что необходимо для создания и существования эл.тока в провод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ие превращения энергии происходят внутри источников то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олните таблиц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77,   № 998,   № 999 (В.И.Лукаши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3124080"/>
          <a:ext cx="8686800" cy="2397240"/>
        </p:xfrm>
        <a:graphic>
          <a:graphicData uri="http://schemas.openxmlformats.org/drawingml/2006/table">
            <a:tbl>
              <a:tblPr/>
              <a:tblGrid>
                <a:gridCol w="609840"/>
                <a:gridCol w="1904760"/>
                <a:gridCol w="1600200"/>
                <a:gridCol w="2743200"/>
                <a:gridCol w="1828800"/>
              </a:tblGrid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источников т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ойство источника то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 получения электрического т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льван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моэле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эле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умуля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y</cp:lastModifiedBy>
  <dcterms:modified xsi:type="dcterms:W3CDTF">2012-01-12T13:06:2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